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0CB0FD18-24BF-4612-B986-C1A6EC246DEE}"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E49D291-6DB5-4120-A8B8-55BA8491124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49516862-58B7-4BA0-A27A-D373E79D4EBB}"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82C940D7-1135-4A1B-A19F-43F55BF81716}"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4DA47C9-4837-4690-88A9-4CEB91B1FE0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F0EEC9C-B73C-48D1-99FA-E5FA98F2EE6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AA4D7A64-9796-47F1-B6D9-BA8A6AA8882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4D1A9F-C7C4-4F1F-93D8-7F572F3E6B52}"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8FADE9ED-A717-44CE-A3D6-0F3C3A3247B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269F86D2-40A0-47C3-A057-D19CF477A282}"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453F3AC6-A602-4D88-96A8-A2F5DBF07A8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6D8CE7C0-4ABE-41C4-8B6B-4B2FB899EF21}"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615D0138-E9E5-44A4-880F-3964AFDE6D50}"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E69DCF7-2166-4444-AA1F-540F006B779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139BA974-9FA2-4D02-8AA3-18932205A898}"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6924AE-EC2F-4D02-81BF-949F6B552BA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7D83102-57F2-4261-97F0-F5C34129585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0AE4920E-893D-46A3-84F2-523F1B5A93BD}"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C730594B-40C9-42EB-80F7-A2DC0B045EC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B2DE7B6F-E92A-4E26-ACC2-8966B366113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0CB271D-D673-4B47-A099-435BD7C3DB87}"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118C2F1-1248-4C37-9D44-D6159EA38F3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2400740B-0FD8-4D59-9D5D-DBD394D72602}"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E403AE98-B38B-4AD0-87EF-F6DC6DE1CAC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580812B-AFA7-44A0-B99C-C9996A2B645A}"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54896F78-3111-4B6F-A582-9B65A5EA63B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9DE21A-BB39-469B-A5DB-279C3F7DD3D5}"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CBF341-0CCF-4FC5-94C1-D5E1EC67800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76502E02-FD39-403B-814D-342AB04AEF8B}"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11274254-C4CE-4660-97E2-FC3824AFAF9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86285E5-99AE-4756-8608-BDEFE10887D9}"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E38C26E-8114-4620-ADA2-5C2C24121DF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E14975CD-CCE3-4B42-B8AB-A858E902E16D}"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5433D743-DB3A-4544-8235-7E099D7CFC35}"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2B4A9FDA-F798-4358-A3B5-0772CC7CF019}"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42F3C32-AA28-448A-922D-DA2B4248CF8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1A1E343-9CCD-41BE-8602-51A9F6E68476}"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FBD2217-17CE-4913-9303-2DEFD5BB762E}"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F3ECEA-7265-4CF8-9C28-5FD76CDCED3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1195144-7403-4906-882C-C72527747261}"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81325546-286A-429F-9785-932A5AB4B47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C000830-6FA5-41EB-ACFF-F3B92B0D9CFA}"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8F3EEDFF-F7FB-40AD-8733-1CCEDCE3E19F}"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1DD9B1E0-3937-4009-9A66-6B92A615BD4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693EDFC4-0EF1-48E0-96A3-CD02CE67D7B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EA67B5FF-1609-466E-AC5A-48962B5424AC}"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59C9207-0611-4EE7-9A97-0668E850C95B}"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94092CF7-E104-432B-BB09-DE04D650526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EA7FCC8B-87D1-4F90-884C-D157AB3D055D}"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C303995-AA4B-410C-A4A8-B5211D619FC4}"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32A6F199-15C7-44EF-984A-36FB9DB6F797}"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1EF97CD-9177-440F-A18D-AC5527CA5B6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77EDA45-BB49-4CBB-AA55-40869D4CBACD}"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86A51F15-A8A5-413E-BFE5-B494D3CA8D6F}"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4FDC2BE6-34D5-4DF5-8FBC-E152D03DA124}"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912043EA-B3D3-416E-AAD3-EE207E9A15F6}"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3A5DA913-064A-4719-8796-D69B8B57DFA6}"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D03B58BD-D00A-4334-8A51-98584B66466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B5E41B8B-6BFD-4E21-8AC8-6B3D9FEA53B7}"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94D977C1-3B3B-4F24-87E1-CECBE76CBC85}"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05D36521-5887-4D16-992C-F97ED5E9BAB8}"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5E8B97F8-3F5D-4B75-95D8-D4C84F6E73FE}"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0107B2D4-BAE6-4258-A1E7-E8BA23A227E8}"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2E224690-0971-45A4-BC70-02A81D73BBB6}"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CBDF590E-E0F7-443B-A026-FF9B8BEFF44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407BE531-A182-4C03-BF55-D2296BCD51A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4CD9A5A-4F6A-4608-AF8F-1AC0436D4294}"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2D465A88-D34B-4F44-A967-273CF4929F4D}"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250E9B8-1F85-4513-BB7A-A50382DAFB3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D2006038-37C3-43DB-AA3C-1D9611F44B21}"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A06168AB-6A1B-431F-85B0-764F4B12DAFE}"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D4BC9118-0A20-464F-A414-90C72AF69D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A8C20624-CD1D-4FCE-97C1-E21067680401}"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BC920B41-B34B-422D-85EA-CD3D9E05339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E64BB866-ADBF-4D88-AA31-04EA73F959E6}"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C58A11CB-E11F-4163-AFCC-6E3035600213}"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83785D65-662C-4CAB-ABE9-B7D01F0DC61B}"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D061FB7-6DDD-459F-8A8B-5D0593D46A6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A0FE5DF-CF8D-4933-B951-49F69D59580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309979-E628-4EF6-865D-C034FA513F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C2CEC8C-35A6-428C-B3D2-C18E2B12295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115005A9-F94A-4B93-9365-1B69913F23F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FB6496A-EB13-4666-935B-7C0B14DD4F89}"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84A4A541-9CD4-4810-A874-E031829C855A}"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B149CFE8-E545-4EA5-8DA8-1231A495E2E3}"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D6CEE15A-1905-4930-8965-1976FD42D5DD}"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A414E3AD-DAC6-42CA-A8A1-570EA3116611}"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5FF5BC5-A5F3-4C23-B737-B3E8D5D72CE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11ABDCBB-F8DE-405B-94CF-6DC9E7565F06}"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2C1E516-3B9A-4026-AC6E-83B1A128B4E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C8B93ED-92C1-42BC-8874-CB8B4993C9C3}"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CFEF53E-9D44-4714-9047-63962E59030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7B4958DD-D72C-4DA3-87C8-4BA5967741B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503C2ACD-307F-4E80-B0BC-41EB6F5B4479}"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4B37C17-BB79-4545-B831-454BB0C08FF0}"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BBC29DF-DBB3-4757-89D4-C0EB93D1A918}"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A597A194-6BEA-4656-9F4C-71147F779A8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7C4FC829-477A-4367-82A9-E19F78DBD923}"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412A9E2-31FF-4906-9EB6-7FFD83CD8B1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F477B626-3310-46B0-ACCE-67726B2CC6C2}"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22C89E21-ECAD-418B-8F3E-25A8A570E1CB}"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D5A27011-971C-4F64-95F6-602DF47AE0F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9816DBD-A058-4AC7-9FE8-36523B3C3AD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316D9535-0C1C-4C2F-9E20-2E9120B5269E}"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9B48F1A-1424-42C0-95EF-D565A209A1DF}"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0E993A7-EEA2-438C-B70A-3C55AFC8AFA5}"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853142B1-B11F-4DF5-872A-6B3B88F9EAE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3948D873-5A0E-4400-A453-4FD55A9E19C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E1D2D1F-5639-4099-BF9E-2E67A5573004}"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08036B2C-5994-4936-9032-F0FB8356AFBF}"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7761BE86-E136-4958-8B15-6B35C2B2E05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19DBA221-5130-462A-B69C-57AC0F0ED02D}"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39F2C2B3-8521-4EB3-9785-9EE9EA44DD2E}"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52B89CC-AA4A-4F49-BB3E-54EB6422697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1C1697A-905F-429C-B4EC-5B4743D2C3C9}"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6CDB16CC-3BD9-45EB-9AA1-50A99C77F882}"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AEA3DE5B-BD8A-4C51-9E08-203E3623117A}"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D0020C49-6879-4A90-8341-C027AC6202B7}"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559D2F44-4FE9-48A7-B77E-56A23CD4A100}"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78C1B72-87AA-4507-B32B-C2C8A054D9D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DBCACB6-8811-4CAE-ABA0-945984FB070F}"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A4E6858-A699-44DB-B55D-2822F7950F8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FBD624FB-FC49-4699-B229-B50E7B3B8EE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BDD085D-3E0D-439D-9AC4-AEB5BF98F63B}"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3B12FEE-47BB-425D-A753-68E7366EEE73}"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A6747290-BD75-4703-8433-3320E86186F1}"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5C3B6A3-9F8B-4AAB-9F8D-407E5BB8EA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FB34F9C4-5F09-4867-838C-B4615D5E1E44}"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F9B3B8-7CCB-4FDA-8578-0D6FEEA239A3}"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38CB899-9F88-4E48-9468-8244FC61B33F}"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1D591E4-6B55-456E-8A38-0C95A668B22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5E6E42C0-4783-4DC1-809C-DAC2289C46D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DCA6406-C3D7-4A54-8FEC-ADB007EE94B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4353FF56-26DF-47CE-8CA2-317DCF095AE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47B2D88-4C08-46E2-B99B-A57DE6947D9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8FBDD55D-AC49-4DA0-AAF5-E990C467331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CAD5225-4D5C-4AA6-985E-81C472D7576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8E6C923-DDE6-4B61-9F92-6BAACA99D6F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A294738F-BEB4-4781-B32F-D12603E7D3EA}"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B20FF938-1275-400B-9472-7BAA6BF016CA}"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B5E843DF-80ED-4DD3-9228-4D65EB49E37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83E4DC1-C176-4E17-8D7F-3DD8A8765F0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55A1708-6482-4392-A6BF-3F663D5104F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6912FC17-6C48-477B-837E-8E0860E8D559}"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AAB9A5B3-3503-4E09-A7F7-C7EE42ADC3E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CC5E2AD-7AA8-496D-AE3A-AD79BA89575C}"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3FD4E067-68EC-4E1D-98C6-B14658E4DE2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D82F452D-7A7A-4543-A362-AE12446D20F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4FDC51C7-82FC-4D81-8080-FB531A23E82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3158E72A-7380-4FA0-8A52-498E16A14F2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BF426EED-A63A-432F-BF8E-5475FDD0FB0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FEA61F3E-2617-4453-A56F-112CB5EB0E69}"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4D3D7E-BFF5-4C63-BAB9-AFEE1BC4B5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5E0D143B-32C1-4BA4-BC9D-513AD4C43336}"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0E8CFABC-0DD9-4701-BE03-97B0374F1D4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E44CE8D9-D317-48D7-AB2C-052E377DA2F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5FB9BA03-A504-44AD-BE55-B029B65B8C95}"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2BC7433A-EEAD-47A2-8AB7-3EB6FE1AB87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DFD9238D-BF5E-437D-995B-45318675064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F9959A8-B233-4979-8CC5-B3C44B17687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EBACD34-1A55-4383-9CE6-61C877D085D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7C6656D-18DD-4C6D-996B-679F8BF82EEE}"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B36C710D-1F63-4B4E-8FF8-9C7B8D9516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3FE0FDC-415C-4D15-B7B8-21336D059BA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7652C41B-5B8F-437C-B6FA-2341095D0305}"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478360C6-8ECE-41B3-9B93-577F7C42A461}"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E82D0E8B-27E3-47C4-92B0-BD5FC7028FD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01B0EDFA-E168-4BC5-BD62-89C2275881D7}"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BD667ED2-139B-45D2-8398-8FE1492839F4}"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7CB1FC0-E0D0-4A29-B4C3-0F825594ACD0}"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450AF7C-00E4-442F-9903-5123566C2368}"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9BBBFF80-F0F6-4958-AFD4-75B54D12E1BE}"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28DF100-D8A5-46B8-BC22-7488C735BFE1}"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CB0F564C-D111-409D-AAC3-82F9B9CFEE06}"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7AFA-7E17-4C8C-B958-0769FFC1971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FB38708-CD38-4402-8F77-70F01316CE5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D0BD336-6064-49D5-8BF4-A41DDDA40F2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95573DC1-72C9-4336-818F-DE076F07DF5B}"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F1754D3C-5A4D-415C-901C-335CA1A092A9}"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CAA2575F-1EC4-4865-8E5E-BF8F5A69F9D5}"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F528B0E9-ECF5-42DB-9E91-8C6A83BF73A6}"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C4983A8-AF93-46DC-8FA8-19DB2FC1107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0A91774-B59C-4904-B80C-E8CF6153780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3DF4AFC1-9E8D-40CD-9556-06BCDD85F1C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D029AABC-18E3-4C29-B5E5-E1C3E910AE3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21C45F1-1542-4BA1-B458-2D55055434E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71C3CBB-9D52-4299-ABCE-B0470B0F90F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8007D91-9202-492B-AC17-001F60241AD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2D5DBC7-E7D9-4E67-A312-4B595D3B5CC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D9B38DC-64A2-4B06-A1CC-3EA965627871}"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40ACCE5-B97A-4F83-9144-2E2B08B0B263}"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F595AB82-66B9-4478-9423-CE893F80BB25}"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F6BE620D-58AB-41C8-8D5D-A7A8C4F6BB60}"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4E19D298-21D8-4D06-88AF-CCEC5C6AEF50}"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BEE87049-6A0F-4BE2-8A73-8A28E48FA013}"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A60863F2-CACC-47F0-9A9B-E5367B221872}"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DDCB40C9-18E6-4CC5-8767-ABAA11E50D7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FA2E9F2-73A5-4560-A609-4818C442AFC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B8E6902-849B-469B-B869-18C9F7116D8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D7EDD9-23CC-4901-B4FD-EA5A2E293D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49E298F-4ADD-4602-A925-7F240332C87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3D91EAB-7CFD-417C-AF81-FB67BC7B74E1}"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2BC9E1-198F-43AC-94C4-7E08E28D73A0}"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62986B3-DEFC-410A-8977-63CE33DD866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E7CEF032-9B79-4587-A862-0357C411E5B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03C2034-48A3-4B14-9F01-F329FEC45E9E}"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3A9C4774-BD17-4551-9C57-8D867D5A7C6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8BDCC76-4B65-4BBA-AADB-CA6A44F37DA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EF0CEC2-3D20-4F3D-98FE-5C1FA91B5D3D}"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C8741F1-343D-4617-B60E-307BF5CDA98F}"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9CBDB20-F1AD-4606-A5CF-AD4E8D41615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9DE7E67F-126D-4FEE-8A3D-BC43D3B36C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